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4211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742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210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21040" y="937872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6DF19-ABF5-407C-9179-415FE208971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4389-5D6F-45D9-BB64-EEE679E694D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78F20-ABD4-48D2-87CB-C5850E57212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A88DB-0506-48D5-BF02-D138A5D933C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0AA3-D832-4773-9FF4-1E2ED529175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398C-1EE0-4A9F-956D-D38D5E752959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AA4A1-B758-4CB2-9A9E-3DBA314B56F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B8A71-6724-48B9-A250-D938E35B5192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4640" y="4689000"/>
            <a:ext cx="539280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8D42-260A-4302-97E5-B6F9F523AC4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E953-BD26-4351-A6BD-CD37B9DD6BB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BD5CC-7177-402F-98BA-68E578540CAF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72DE8-DBE7-4A65-9145-B01DAE3EB87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E9150-CB73-483F-BFB3-659E8B7D2E26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2006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년 식약청 용역연구사업 선정평가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공개발표</a:t>
            </a: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821040" y="9379080"/>
            <a:ext cx="29210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417AD-ECB7-4056-AAC6-8852A9E4199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03240" y="739800"/>
            <a:ext cx="4935600" cy="37036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898560" y="4689000"/>
            <a:ext cx="4944960" cy="445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EA5D3-1940-471E-80A8-F9DEA246B7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80071-F7DB-4B0F-8AE8-F18B1715E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ED86-9F3D-4095-A92B-7B585787CA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D2A02-FCA0-4528-AAEE-6C1AE2310F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AD93-2339-4B28-AE9F-A4F766105D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3D3F8-3BC7-423B-812E-65D7E66B6D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B7056-6146-4642-A989-8913CB812A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74486-EAD0-4BE2-A4BE-FD4916C9E4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A16F0-687B-4491-B092-7DFCDF5D85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06DC6-1716-42FB-BB2F-33E8C1A45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62A02-8248-4683-B6BB-BA812AF5BC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5665-A786-45F6-B21D-A2C9A5B441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A37C2-468B-448F-9B00-00281156C6F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179280" y="4292640"/>
            <a:ext cx="8785440" cy="2449440"/>
          </a:xfrm>
          <a:prstGeom prst="rect">
            <a:avLst/>
          </a:prstGeom>
          <a:solidFill>
            <a:srgbClr val="f2f2f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◎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[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참고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1] </a:t>
            </a:r>
            <a:r>
              <a:rPr b="1" lang="ko-KR" sz="1400" spc="-1" strike="noStrike" u="sng">
                <a:solidFill>
                  <a:srgbClr val="ff0000"/>
                </a:solidFill>
                <a:uFillTx/>
                <a:latin typeface="돋움"/>
                <a:ea typeface="돋움"/>
              </a:rPr>
              <a:t>과제 목록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의 각 과제별 평가방법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반드시 확인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◎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 작성 시 제공된 양식 사용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본 파일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구성 및 기본 양식은 변경할 수 없음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돋움"/>
                <a:ea typeface="돋움"/>
              </a:rPr>
              <a:t>폰트 및 배경 등은 변경 가능</a:t>
            </a:r>
            <a:r>
              <a:rPr b="0" lang="en-US" sz="12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발표자료의 페이지 수 제한 없음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-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특수 폰트 및 애니메이션 효과는 구현되지 않으므로 사용 자제</a:t>
            </a:r>
            <a:r>
              <a:rPr b="0" lang="en-US" sz="1400" spc="-1" strike="noStrike">
                <a:solidFill>
                  <a:srgbClr val="000000"/>
                </a:solidFill>
                <a:latin typeface="돋움"/>
                <a:ea typeface="돋움"/>
              </a:rPr>
              <a:t>, PDF </a:t>
            </a:r>
            <a:r>
              <a:rPr b="0" lang="ko-KR" sz="1400" spc="-1" strike="noStrike">
                <a:solidFill>
                  <a:srgbClr val="000000"/>
                </a:solidFill>
                <a:latin typeface="돋움"/>
                <a:ea typeface="돋움"/>
              </a:rPr>
              <a:t>파일로 변환하여 제출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제출 후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,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접수된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파일은 절대 수정 불가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※ </a:t>
            </a:r>
            <a:r>
              <a:rPr b="1" lang="ko-KR" sz="1400" spc="-1" strike="noStrike">
                <a:solidFill>
                  <a:srgbClr val="ff0000"/>
                </a:solidFill>
                <a:latin typeface="돋움"/>
                <a:ea typeface="돋움"/>
              </a:rPr>
              <a:t>본 페이지는 발표자료에서 삭제해 주시기 바랍니다</a:t>
            </a:r>
            <a:r>
              <a:rPr b="1" lang="en-US" sz="1400" spc="-1" strike="noStrike">
                <a:solidFill>
                  <a:srgbClr val="ff0000"/>
                </a:solidFill>
                <a:latin typeface="돋움"/>
                <a:ea typeface="돋움"/>
              </a:rPr>
              <a:t>.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179280" y="133560"/>
            <a:ext cx="8785440" cy="8618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발표자료 작성 시 주의사항</a:t>
            </a:r>
            <a:endParaRPr b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79280" y="1197000"/>
          <a:ext cx="8785440" cy="2808360"/>
        </p:xfrm>
        <a:graphic>
          <a:graphicData uri="http://schemas.openxmlformats.org/drawingml/2006/table">
            <a:tbl>
              <a:tblPr/>
              <a:tblGrid>
                <a:gridCol w="1008000"/>
                <a:gridCol w="3961080"/>
                <a:gridCol w="3816360"/>
              </a:tblGrid>
              <a:tr h="585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표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서면평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0666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제출 방법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PDF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로 변환하여 제출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제출 불필요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연구관리시스템 발표자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업로드란에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용 계획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’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 업로드할 것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5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평가 시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RFP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설명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(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식약처 주관부서에서 진행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)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발표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20</a:t>
                      </a:r>
                      <a:r>
                        <a:rPr b="1" lang="ko-KR" sz="1400" spc="-1" strike="noStrike">
                          <a:solidFill>
                            <a:srgbClr val="ff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질의응답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15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돋움"/>
                          <a:ea typeface="돋움"/>
                        </a:rPr>
                        <a:t>-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규모 및 비목별 예산편성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900000" y="1193760"/>
          <a:ext cx="7345440" cy="4827600"/>
        </p:xfrm>
        <a:graphic>
          <a:graphicData uri="http://schemas.openxmlformats.org/drawingml/2006/table">
            <a:tbl>
              <a:tblPr/>
              <a:tblGrid>
                <a:gridCol w="881280"/>
                <a:gridCol w="1158840"/>
                <a:gridCol w="928440"/>
                <a:gridCol w="2041560"/>
                <a:gridCol w="1113120"/>
                <a:gridCol w="1222200"/>
              </a:tblGrid>
              <a:tr h="562320">
                <a:tc gridSpan="3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                         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  목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 구 개 발 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율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%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건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rowSpan="11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내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외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유인물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험분석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전산처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시약 및 연구용 재료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회의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임차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교통통신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감가상각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과활용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일반관리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gridSpan="3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합         계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sp>
        <p:nvSpPr>
          <p:cNvPr id="60" name="Text Box 86"/>
          <p:cNvSpPr/>
          <p:nvPr/>
        </p:nvSpPr>
        <p:spPr>
          <a:xfrm>
            <a:off x="7020000" y="892080"/>
            <a:ext cx="145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단위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7-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국외출장의 적절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지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자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장목적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출 장 비 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8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 일정의 적정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적하는 연구결과 도출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0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성과의 활용 가능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과제제안서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RFP)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목표 </a:t>
            </a: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요연구내용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기대성과 및 활용분야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549360"/>
            <a:ext cx="7925040" cy="565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단위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명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r>
              <a:rPr b="1" i="1" lang="en-US" sz="2000" spc="-1" strike="noStrike">
                <a:solidFill>
                  <a:srgbClr val="3333cc"/>
                </a:solidFill>
                <a:latin typeface="굴림"/>
              </a:rPr>
              <a:t>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과제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접수번호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연구관리시스템상 접수번호 참고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책임자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주관연구기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책임자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3333cc"/>
                </a:solidFill>
                <a:latin typeface="굴림"/>
              </a:rPr>
              <a:t>세부연구기관 </a:t>
            </a:r>
            <a:r>
              <a:rPr b="1" lang="en-US" sz="2000" spc="-1" strike="noStrike">
                <a:solidFill>
                  <a:srgbClr val="3333cc"/>
                </a:solidFill>
                <a:latin typeface="굴림"/>
              </a:rPr>
              <a:t>: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해당사항 없으면 삭제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기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    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~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년      월        일 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당해연도 연구개발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:                    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천원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(RFP </a:t>
            </a:r>
            <a:r>
              <a:rPr b="1" i="1" lang="ko-KR" sz="1600" spc="-1" strike="noStrike">
                <a:solidFill>
                  <a:srgbClr val="3333cc"/>
                </a:solidFill>
                <a:latin typeface="굴림"/>
              </a:rPr>
              <a:t>상 연구비 기입</a:t>
            </a:r>
            <a:r>
              <a:rPr b="1" i="1" lang="en-US" sz="1600" spc="-1" strike="noStrike">
                <a:solidFill>
                  <a:srgbClr val="3333cc"/>
                </a:solidFill>
                <a:latin typeface="굴림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목표 및 필요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계획서와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RFP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의 부합성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범위 및 내용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추진전략 및 체계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책임자의 역량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업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전문성 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)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ℹ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257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</a:rPr>
              <a:t>연구수행에 필요한 시설 및 장비 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(</a:t>
            </a:r>
            <a:r>
              <a:rPr b="1" i="1" lang="ko-KR" sz="1600" spc="-1" strike="noStrike">
                <a:solidFill>
                  <a:srgbClr val="0000ff"/>
                </a:solidFill>
                <a:latin typeface="굴림"/>
              </a:rPr>
              <a:t>해당사항 없으면 삭제</a:t>
            </a:r>
            <a:r>
              <a:rPr b="1" i="1" lang="en-US" sz="1600" spc="-1" strike="noStrike">
                <a:solidFill>
                  <a:srgbClr val="0000ff"/>
                </a:solidFill>
                <a:latin typeface="굴림"/>
              </a:rPr>
              <a:t>)</a:t>
            </a:r>
            <a:r>
              <a:rPr b="1" i="1" lang="en-US" sz="2000" spc="-1" strike="noStrike">
                <a:solidFill>
                  <a:srgbClr val="000000"/>
                </a:solidFill>
                <a:latin typeface="굴림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971640" y="1628640"/>
          <a:ext cx="7200720" cy="4105440"/>
        </p:xfrm>
        <a:graphic>
          <a:graphicData uri="http://schemas.openxmlformats.org/drawingml/2006/table">
            <a:tbl>
              <a:tblPr/>
              <a:tblGrid>
                <a:gridCol w="1893960"/>
                <a:gridCol w="822240"/>
                <a:gridCol w="1706400"/>
                <a:gridCol w="1957320"/>
                <a:gridCol w="820800"/>
              </a:tblGrid>
              <a:tr h="633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구기자재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및 시설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수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용도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확보 및 활용방안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비고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71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⁢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9T04:24:03Z</dcterms:created>
  <dc:creator>SEC</dc:creator>
  <dc:description/>
  <dc:language>en-US</dc:language>
  <cp:lastModifiedBy>Administrator</cp:lastModifiedBy>
  <cp:lastPrinted>2020-02-04T06:07:16Z</cp:lastPrinted>
  <dcterms:modified xsi:type="dcterms:W3CDTF">2021-02-18T12:10:53Z</dcterms:modified>
  <cp:revision>97</cp:revision>
  <dc:subject/>
  <dc:title>2006년도 식품의약품안전청 공개발표 선정평가    ℹ 사 업 명 :   ℹ 과 제 명 :   ℹ 연 구 비 :   ℹ 신청기관 :   ℹ 주관연구책임자 :</dc:title>
</cp:coreProperties>
</file>